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17F-58A2-4C4D-94D1-6BDAFD43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6E7-7CC6-4A5F-A3D1-F83FACE2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9B4-0398-4869-9632-52C78C3C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DA5-0A3C-4A44-ABD7-44EA79FB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07D-500B-4425-8728-E6511E50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72F-8167-4792-973B-B538F651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F8D-48D5-4ABF-852A-AEC3D1B1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E7D-B518-4DE2-8AE6-0B419A75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9B4-BB83-41B2-9300-E8667E3B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E0B-BDE4-4953-95A4-5A3AFFC1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EF0-1C2F-430E-ACA0-DC8691D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250-680D-4744-AD5E-439F2B62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4BEC-F195-443B-BDA7-66FE0D02E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n%20título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in%20título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in%20título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n%20título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in%20título-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n%20título-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in%20título-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in%20título-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in%20título-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in%20título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n%20título-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in%20título-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in%20título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n%20título-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n%20título-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6:08:08Z</dcterms:created>
  <dc:creator>Grupo Editorial</dc:creator>
  <dc:description/>
  <dc:language>en-US</dc:language>
  <cp:lastModifiedBy>Grupo Editorial</cp:lastModifiedBy>
  <dcterms:modified xsi:type="dcterms:W3CDTF">2001-09-19T16:12:12Z</dcterms:modified>
  <cp:revision>1</cp:revision>
  <dc:subject/>
  <dc:title>Sin título de diapositiva</dc:title>
</cp:coreProperties>
</file>